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move the slide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32A6-CE4B-4567-99EF-C73C4CEB7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sending an RTS [request to send] the node waits between a random period 0 and di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R lost most of the packets due to queue over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not the deadline specified in the se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not the deadline specified in the se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a messsage from I to d. then j is in F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ice of the node from the viable candidate set is made based on the highest re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OD and DSR do not perform well under con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87C-D4A8-48B4-9F92-34647827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B35B-128C-4340-8582-4D993E98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4EF-FE78-48A5-9AB8-B5B66555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5A5-4AC7-4E2C-98A8-3F588701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AC9D-69A0-4DAC-A9C9-84F64DC0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2606-CB98-4D11-9E3F-36E5E39C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493D-E5DC-4B5B-8E61-47C2DE64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E8C0-4A29-4520-9BF6-B3207B89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C994-5963-405A-8741-E6F3CA42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F7C9-2142-4062-BA1A-A8E0C054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744B-0B00-4D14-BBF3-1112B481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635-DE36-491F-8A4D-14F4C89A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128B-3417-4E73-813B-930A12EF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3C9A-E09A-474B-8E18-2E37E60A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043E-5A0B-41F1-B98D-0DB72ADA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5169-9C75-47F7-891B-6CB36B2A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25C8-22B2-48C0-856D-0E9679B6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B34-3D7D-4ED0-9E48-99A87278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12B7-7EC8-439D-A456-58589FC4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4947-84D9-4B45-8926-A961AF04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1AF9-F649-4C40-BF6C-4B8B3AD1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6F99-F903-4154-829E-8E004175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7BF-1E59-458A-8F23-B64216E9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DA1-DD36-439E-9884-AAF6B854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09A1-0761-49CF-AB81-EA5A58589C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6B73-1134-485A-AE51-23C4D03CA6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 and SPEED 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ed by Octav Chip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Location-Addressed Protocol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less transport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is based on geographic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mult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any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Geographic forwarding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dy algorith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s the node with the shortest geographic distance to the packet’s dest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every step the packet gets closer to the dest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really good for high density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Velocity Monotonic Scheduling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FS policy is generally used in sensor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 poorly for realtim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both deadline and distance 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s priority based on the requested velo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igher velocity denotes higher 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Velocity Monotonic Scheduling(2)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flav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monotonic velocity (SM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=dist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monotonic velocity (DM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=dist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(D-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AC –layer prioritization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ommunicating multiple host compete for the shared me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802.11b all messages have the same 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nforce packet prioritization MAC protocols should provide distributed prioritization on packets from different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 changed two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you can wait after i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S = BASE_DIFS * 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off increas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W=CW*(2 + (PRIORITY-1)/MAX_PRIOR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Experiment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ing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ic Source Routing (DS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iginally designed for ID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ion based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 – fixed priority based on their e2e dead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locity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V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V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Overall Miss Ratio of GF/DSR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Impact of scheduling on deadline misses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PEED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tate of the ar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a few real-time algorithms exist for sensor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ing based on sensor’s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S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D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ealtime System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rned with two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regarding the immediate neighb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 Real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uniform speed delivery across th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 is this uniform speed guaranteed globally or piece-w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 why would the application want something like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MAC Layer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ffic load-bala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ized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d avo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peed Protocol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beacon exchange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ay estimation 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less nondeterministic geographic forwarding 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feedback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bone rero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d avo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mile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API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MulticastSend(position,radius, 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a message to all nodes in the specified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AnyCastSend(position,radius,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s a message to at least one node inside the specified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castSend(Global_ID, 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a message to the specified ID (id is given by its geographic po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Receiv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API 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is the time constrai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PEED aims at providing a uniform packet delivery speed across the sensor network, so that the end-to-end delay of a packet is proportional to the distance between the source and destination. With this service, real-time applications can estimate end-to-end delay before making admission decisions. Delay differentiation for different classes of packets is left as future work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Q: if the velocity is imposed piece wise how can we give end-to end guarante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Q: By distance we mean Euclidian distance or the Euclidian distance of the pat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85f"/>
                </a:solidFill>
                <a:latin typeface="Arial"/>
              </a:rPr>
              <a:t>Neighbor beacon exchange scheme</a:t>
            </a:r>
            <a:endParaRPr b="0" i="1" lang="en-US" sz="36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ically broadcasts a beacon to neighbors to exchange loc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reduce traffic we can piggyback th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enhance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vertising state changes may reduce number of beac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-demand beac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ay esti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pressure pres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ghbor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 To De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lay estimation algorithm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scarce bandwidth cannot use probe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 is measured at the sender as the difference between when the packet was queued and its ACK and the processing time on the recei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s track of multiple data points to compute the current delay using (EWMA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alavg = intervalavg + w * er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is the refresh time sample from this pack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 = I - intervalav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is the smoothing consta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lay estimation algorithm 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ay estimation beacon is used to communicate to other neighbors the estimated de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 to make a set of neighboring nodes react to changes in traffic patters [avoid congestion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GF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set of nod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warding candidate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 = d(i, destin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next = d(next, destin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y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17657" t="0" r="19173" b="0"/>
          <a:stretch/>
        </p:blipFill>
        <p:spPr>
          <a:xfrm>
            <a:off x="5638680" y="4425840"/>
            <a:ext cx="3505320" cy="2432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0" y="0"/>
                <a:ext cx="2733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76520" y="3200400"/>
                <a:ext cx="4267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676520" y="2362320"/>
                <a:ext cx="2819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range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2286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600200" y="5105520"/>
                <a:ext cx="30211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Speed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pDela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FG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|FSi| &gt; 0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|Viable| &gt; 0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didate=choose(Viable(FSi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o candi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 relay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no nodes to support Ssetpoint downstream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 packet if a random chosen between (0,1) 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ger than the relay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pressure beacon up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2057400"/>
                <a:ext cx="4419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iabl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j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est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tpo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odeling the sensor network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ns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 layer may provide Q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rce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ds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intens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generates congestion hot-sp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nd-to-end communication time depends on single-hop delay and the distance it has to tra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FG(3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ay Bound = 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2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/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set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2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end-to-end Euclidian distance measu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etpoi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speed maintained across th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messages have the same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is really mean we can enforce a deadli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Neighbor feedback loop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a single hop speed above a desired Sset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etpoint is a network wide parameter that tunes how harsh the realtime requirements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85f"/>
                </a:solidFill>
                <a:latin typeface="Arial"/>
              </a:rPr>
              <a:t>Neighbor feedback loop</a:t>
            </a:r>
            <a:endParaRPr b="0" i="1" lang="en-US" sz="36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rcRect l="8625" t="0" r="0" b="0"/>
          <a:stretch/>
        </p:blipFill>
        <p:spPr>
          <a:xfrm>
            <a:off x="1143000" y="2286000"/>
            <a:ext cx="678168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Back pressure rerouting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routing due to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gested area is detected and the probability of sending to that node is lim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be reinforcement should refer to a geographic area rather than a nod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410080" y="4673520"/>
            <a:ext cx="37339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Void avoidance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ds occur if the density is not high en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s with voids similarly to hotspots by applying backbon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packets may be dropped when trying to avoid a v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029200" y="4875120"/>
            <a:ext cx="41148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Last mile processing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ing close to the destination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any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mult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E2E Miss Ratio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etpoint = 1k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2e deadline = 200 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Protocol Evaluation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743200" y="1676520"/>
            <a:ext cx="4419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Improving Speed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Possible  Improvement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the application to specify different sp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 speed and r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the MAC layer to support priority sending messages with different prio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cheduling policy to 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 messages dropp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odeling the sensor network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ght integration with the physical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 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patter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coordin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sors coordinate with one another [usually by defining a group] in order to aggregat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involves a small number of 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or-base communi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s data from the local group to the base 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s multiple 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Questions?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ontribution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gh level architecture for large wireless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define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ent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locity Monotonic Scheduling (V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olicy for scheduling packets in a senso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APIs for micro-sensing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imize the number of packets meeting their e2e dead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e well to large number of nodes and h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 minimum communication over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 Stack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81080" y="2209680"/>
            <a:ext cx="594360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Query/Event Service API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ry {attribute list, area, time constraints, querier location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er {event, area, query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ally the results will be send back to the quer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ochipara</cp:lastModifiedBy>
  <cp:lastPrinted>1904-01-01T00:00:00Z</cp:lastPrinted>
  <dcterms:modified xsi:type="dcterms:W3CDTF">2003-09-12T21:53:18Z</dcterms:modified>
  <cp:revision>123</cp:revision>
  <dc:subject/>
  <dc:title>PowerPoint Presentation</dc:title>
</cp:coreProperties>
</file>